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E4CC-DA02-421B-AA89-A9E17811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AF57-0947-4E9B-8A0B-EE77FB4C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90FC-937D-4AFF-BF49-91DC5B99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631B-F7B9-479F-919A-E52D1A1D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2066-414C-4236-A13F-4BC6B0B9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6DFD-4804-4EDE-AAAB-82B732DC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8398-5FAA-4374-99CC-2C6707AC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3509-D97C-482E-92BB-D6C14299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A1CB-9724-4C9F-8DBA-8EE623DD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CB3A-5251-4EB5-93DE-AEDE5AF1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61D9-FB38-49BE-9E63-CCBF6B3B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AF2E-17AB-457F-AAFD-6DA5D184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AF8C-F8B6-42BE-87D1-5A9BA0AD1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KTÁ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828800" y="1981080"/>
          <a:ext cx="5486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981080"/>
                    <a:ext cx="5486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774880" y="1981080"/>
          <a:ext cx="35942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4880" y="1981080"/>
                    <a:ext cx="3594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ktá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raktál je jakýkoliv geometricky nepravidelný útvar, ze kterého po rozdělení vznikne v ideálním případě několik soběpodobných kopií původního celku. Jedná se o útvary, které jsou soběpodobné a nezávislé na měřítku. Často mají ještě další zajímavé vlastnosti, např. nekonečně dlouhý obvod či nekonečně malý obsa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ásledující obrázek se jmenuje Kochova vločk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48320" y="2751120"/>
          <a:ext cx="3809880" cy="25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751120"/>
                    <a:ext cx="380988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276200" y="1981080"/>
          <a:ext cx="262908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6200" y="1981080"/>
                    <a:ext cx="26290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914400" y="4114800"/>
          <a:ext cx="754380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114800"/>
                    <a:ext cx="75438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ktál může být i penta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bo kaprad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andelbrotova množ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jznámější fraktá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bjevil jí Benoít Mandelbro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zorec je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z</a:t>
            </a:r>
            <a:r>
              <a:rPr b="1" lang="cs-CZ" sz="2800" spc="-1" strike="noStrike" baseline="-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752480" y="3733920"/>
          <a:ext cx="563904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733920"/>
                    <a:ext cx="563904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liovy množi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076560" y="1981080"/>
          <a:ext cx="299088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6560" y="1981080"/>
                    <a:ext cx="2990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m typem fraktálů jsou fraktály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lynomické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 Během druhé světové války dva francouzští matematikové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aston Juli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ierre Fat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bjevili zvláštní útvary nazývané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Juliovy množin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 Některé se podobají keříkům, jiné mořským koníčkům, některé králíků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King´s dr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2847960"/>
          <a:ext cx="3809880" cy="23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47960"/>
                    <a:ext cx="380988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zorec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sin(y</a:t>
            </a:r>
            <a:r>
              <a:rPr b="1" lang="cs-CZ" sz="2800" spc="-1" strike="noStrike" baseline="-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b) + c sin(x</a:t>
            </a:r>
            <a:r>
              <a:rPr b="1" lang="cs-CZ" sz="2800" spc="-1" strike="noStrike" baseline="-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8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sin(x</a:t>
            </a:r>
            <a:r>
              <a:rPr b="1" lang="cs-CZ" sz="2800" spc="-1" strike="noStrike" baseline="-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) + d sin(y</a:t>
            </a:r>
            <a:r>
              <a:rPr b="1" lang="cs-CZ" sz="2800" spc="-1" strike="noStrike" baseline="-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raktálů je mnoh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828800" y="1981080"/>
          <a:ext cx="5486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981080"/>
                    <a:ext cx="5486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ůžete si i udělat vlastní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49160" y="1981080"/>
          <a:ext cx="76456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981080"/>
                    <a:ext cx="7645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69960" y="1793880"/>
            <a:ext cx="595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2960" y="617220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, i toto je fraktál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ekny%5B1%5D" descr=""/>
          <p:cNvPicPr/>
          <p:nvPr/>
        </p:nvPicPr>
        <p:blipFill>
          <a:blip r:embed="rId1"/>
          <a:stretch/>
        </p:blipFill>
        <p:spPr>
          <a:xfrm>
            <a:off x="2514600" y="685800"/>
            <a:ext cx="3679920" cy="2727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17800" y="3546360"/>
            <a:ext cx="635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 internetu se o fraktálech můžete dozvědět ví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osobně jsem čerpal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ww.martin.hinner.info/math/Frak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12:12:22Z</dcterms:created>
  <dc:creator>Mikoláš Štrajt</dc:creator>
  <dc:description/>
  <dc:language>en-US</dc:language>
  <cp:lastModifiedBy>Mikoláš Štrajt</cp:lastModifiedBy>
  <dcterms:modified xsi:type="dcterms:W3CDTF">2007-04-18T12:42:17Z</dcterms:modified>
  <cp:revision>8</cp:revision>
  <dc:subject/>
  <dc:title>FRAKTÁLY</dc:title>
</cp:coreProperties>
</file>